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6589-0F31-47FB-B599-266D99B83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80BB-948F-4B67-A851-B7297102D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16E5-51F0-4F7A-81F7-2ADB79F3E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3609-7D4D-4CC6-8D0B-8FBBDD1EA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B454-D2E1-42C3-B473-57565F6BE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36AC-E5D8-43FD-B2AE-1C3B2D7A0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3B74-D435-403F-A038-7D250640A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ED01-F16D-48C4-829D-EDB76AF78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8CD7-0829-4A4C-8243-7A373206D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70F2-38A1-43F3-9B56-DB0C515C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3051-F418-43EC-8665-C402E9D4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DFA4-AB8E-4688-9C05-E9109619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A2648-9ABA-4281-827C-F0B48841D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j8TyygWl9nQ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ic Cur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ow is water like electricit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urr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tends to flow from high places to low places, due to it’s potential energy or the effect of gravi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icity acts in the same manner.  Electrons will flow from a place with a negative charge to a place with positive charges (Opposites attra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urr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lectric Current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I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net movement of electrons in a single direc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ic current is measured in  amperes or amps 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mp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6250 million billion electrons or 6.24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lom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flowing past a point every second [1 A = 1 C/S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reates the curr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water, a difference in height would make the water m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electric current, you need a power source to provide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ltage differen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voltage differ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ltage difference (V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difference in the voltage or the  electric potential energy.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ink of it like an electric press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a battery, electrons are on one end, the negative end.  They want to travel to the positive end of the batte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tage is measured in volts (V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 1 volt = 1 joule/coulomb 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makes the light bulb gl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1600200"/>
            <a:ext cx="8570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 water current, electric current can be slowed down by bumping into th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rt of the circuit which is inside of the light bul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thin wire called a filament.  This filamen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is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low of electrons; The electrons bump into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ecules in the material and electrical energy 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ed into thermal and then radiant energy (glow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lament has a hig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ist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resista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ist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R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he tendency for a material to oppose the flow of electrons.   Conductors have less resistance than insulators.  (Copper is an excellent conductor, it has a low resist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istance is measured in Ohm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Ω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keeps the current flowing in a circu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oltage difference of the batt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makes a light bulb gl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sistance of the filaments in the bu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is water like electric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has a current (I), requires a difference in energy to keep moving (V) and can be slowed down by objects in its path (R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 Analogy An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j8TyygWl9n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7T22:20:40Z</dcterms:created>
  <dc:creator>Dan Salazar</dc:creator>
  <dc:description/>
  <dc:language>en-US</dc:language>
  <cp:lastModifiedBy>Dan Salazar</cp:lastModifiedBy>
  <dcterms:modified xsi:type="dcterms:W3CDTF">2011-12-09T13:21:47Z</dcterms:modified>
  <cp:revision>5</cp:revision>
  <dc:subject/>
  <dc:title>Electric Current</dc:title>
</cp:coreProperties>
</file>